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194-D193-403F-93F1-C97C18CA1C1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470B-5B5D-488C-9198-A35DFF432D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F39A-B44A-4017-9CD5-B84E0001443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05F-3AB6-4E27-BFB7-C403DE47A06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3A44-6247-454F-8113-B8DC3947DB8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F49-D05B-49F7-9550-7001C6D5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3F4-D408-45B0-8EF2-445BA73E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35C-B3A1-44C6-B3C3-1971D343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2AD-40DD-49F4-B3F8-BC16870A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416-0336-433B-B698-0A5CF6D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DA6-C685-408E-B804-BA8240EF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B75-3CE3-4C19-A16E-13A12E5B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079-4181-47DE-8296-DCD92B6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CD1-0D95-4072-ACF6-4DEF47D5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6B0-72C0-45C4-937E-D12FD91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82A-8830-4B94-9F79-AE70725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EF1-0DE3-46A4-BC54-A824AA1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055-C3EF-4CE6-B8D1-98B4B0647B0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 e 20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dcterms:modified xsi:type="dcterms:W3CDTF">2019-02-27T21:02:25Z</dcterms:modified>
  <cp:revision>23</cp:revision>
  <dc:subject/>
  <dc:title>Apresentação do PowerPoint</dc:title>
</cp:coreProperties>
</file>